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083050"/>
        <c:axId val="58961356"/>
      </c:barChart>
      <c:catAx>
        <c:axId val="308305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961356"/>
        <c:crosses val="autoZero"/>
        <c:auto val="1"/>
        <c:lblAlgn val="ctr"/>
        <c:lblOffset val="100"/>
        <c:noMultiLvlLbl val="0"/>
      </c:catAx>
      <c:valAx>
        <c:axId val="5896135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8305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CCD68-2E97-4EDF-8639-3DD6AE710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B19C6-9D6E-4D4E-88C5-65AAA0675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D5115-8D10-4474-ADE0-FCD66D2E6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3E486-5046-40CB-BCD0-B470FDED3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4C161-4382-4DCB-BECD-19BDFC28F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BF73D-C1DB-45AD-BF8E-53F1B315B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6AC2B-A9FB-4ACF-860F-911E03AE0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2C0A3-8563-4833-93B6-535436929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C3262-5253-476B-9121-1F6365C3F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0601B-CB87-441D-8740-21BAA05B6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C8411-4BFC-4EA2-8F3A-4E774CEC7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33DF0-CDD8-4F44-AE44-4B3A85B45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7B67F5-6DF2-492D-8903-F1F657CCAA3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