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77275"/>
        <c:axId val="80206613"/>
      </c:barChart>
      <c:catAx>
        <c:axId val="15477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06613"/>
        <c:crosses val="autoZero"/>
        <c:auto val="1"/>
        <c:lblAlgn val="ctr"/>
        <c:lblOffset val="100"/>
        <c:noMultiLvlLbl val="0"/>
      </c:catAx>
      <c:valAx>
        <c:axId val="80206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77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B9A-2AC7-45F4-8EDB-C0FFB743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92D-B3D7-4E50-A13B-92E68FC7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BD7-3907-4929-9617-F8604F2A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15B-0DB9-4346-A36E-3B191D7D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8DB-7FE8-4BBB-B9F1-1E5DAA0C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FBE-2789-4E27-9A3B-13881722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1F4-5BCC-4B02-AE61-FFEBA02B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1C7-7E8A-446B-B84F-10E5DD0F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2EF-111F-4014-AE30-D47B73CE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B4A-3D86-47E2-902F-65A0E7B6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FEC-5FEC-409E-BAC1-295A5EF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EF1-7D1C-4F76-B3E2-9A7F9BD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B171A-EC5A-4678-AFC4-9E3890597D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