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78688"/>
        <c:axId val="30635919"/>
      </c:barChart>
      <c:catAx>
        <c:axId val="63978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35919"/>
        <c:crosses val="autoZero"/>
        <c:auto val="1"/>
        <c:lblAlgn val="ctr"/>
        <c:lblOffset val="100"/>
        <c:noMultiLvlLbl val="0"/>
      </c:catAx>
      <c:valAx>
        <c:axId val="30635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78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ACF-5C8F-46FA-81F0-888E58AD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F55-644E-46DD-B174-F8FF81A3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CBB-B5BD-4887-A7A8-FAFAA7BA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E48-A064-4B3E-A23D-1CA6312A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973-8FBE-4427-B42B-D74BE48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935-E51B-4716-9723-F5AF25C7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F5C-BF5A-4F42-979D-6E0F0FE5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897-5015-495F-BE74-31BECA7D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EE7-8597-41B1-A6C1-2AB4C243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442-9446-4F12-9797-CAA2934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B20-003C-4E86-BC74-3F909995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F72-2C65-410C-9EB4-67AE7C8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192A5-847A-40FA-A626-CD29B488B9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