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06519"/>
        <c:axId val="80229796"/>
      </c:barChart>
      <c:catAx>
        <c:axId val="37606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9796"/>
        <c:crosses val="autoZero"/>
        <c:auto val="1"/>
        <c:lblAlgn val="ctr"/>
        <c:lblOffset val="100"/>
        <c:noMultiLvlLbl val="0"/>
      </c:catAx>
      <c:valAx>
        <c:axId val="80229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06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509-E254-4FC0-B606-DD5C8054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304-F841-438B-9054-E5AC341B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D92-DB9A-4AE0-8FA7-F52CCF36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708-1F20-489C-9743-0D70633A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826-F59F-4049-8EF2-9BB923D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E19-BE72-404B-ABB9-BD55CFF2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23D-AD7C-459D-8E7E-383A537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668-A0EF-4821-8759-233714A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C43-1AEC-42F0-91CB-8851266B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400-EDAB-45C5-AA89-049E7F3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4EC-6B08-4CA4-B5A0-1B9CB30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5BA-12D9-4552-8CE4-441688C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223A0-D3CA-4CBB-A40C-65EF43056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