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29851"/>
        <c:axId val="8667096"/>
      </c:barChart>
      <c:catAx>
        <c:axId val="47229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7096"/>
        <c:crosses val="autoZero"/>
        <c:auto val="1"/>
        <c:lblAlgn val="ctr"/>
        <c:lblOffset val="100"/>
        <c:noMultiLvlLbl val="0"/>
      </c:catAx>
      <c:valAx>
        <c:axId val="8667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29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53B-9988-4C8D-95AD-F83E1414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D9A-95B4-4C57-9D6A-68464BB7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FEA-0B76-4157-B860-BD837807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A7F-DC28-4519-A6F1-6A77C6A9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AB3-7F4E-40E5-BB00-496BA5D8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99A-1954-4C03-A5CD-569DE116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246-6A5B-4787-8700-6660793F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80C-5FE6-4CBE-8593-1B8B01F3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342-C48C-41E4-8F6F-94CCC568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639-B99E-43B2-8D9F-BA8E3701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C96-010E-4FC6-AA22-58FFE4D3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6D4-F573-4F7A-9F5F-BF1C4086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6D8CF-09C7-4AE5-85E6-BA9471EB2A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