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06456"/>
        <c:axId val="72907874"/>
      </c:barChart>
      <c:catAx>
        <c:axId val="62506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7874"/>
        <c:crosses val="autoZero"/>
        <c:auto val="1"/>
        <c:lblAlgn val="ctr"/>
        <c:lblOffset val="100"/>
        <c:noMultiLvlLbl val="0"/>
      </c:catAx>
      <c:valAx>
        <c:axId val="72907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06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34A-3BB5-49DE-9EE1-54BD0A67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032-927C-4DEF-90B8-0F357602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7AD-AC33-4086-B085-0568352A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F2C-0561-45C5-8B76-FF5D55B2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AE5-67C5-4E58-8024-68D819AB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32A-6CAE-4952-AACD-32D4FA80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D1D-862F-4836-B100-A41BE959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6B6-E80A-41DC-A2F4-37ADC0CA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DA3-2087-4FEA-832E-C22B7914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CD9-3C89-44CF-B26E-501F35ED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7A6-01EC-45F5-84E7-DA1904D7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B59-793A-46BB-BEDE-D0DE5AC4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F9AC4-EA02-4519-ACCF-F6402166F8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