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26057"/>
        <c:axId val="99881956"/>
      </c:barChart>
      <c:catAx>
        <c:axId val="40426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81956"/>
        <c:crosses val="autoZero"/>
        <c:auto val="1"/>
        <c:lblAlgn val="ctr"/>
        <c:lblOffset val="100"/>
        <c:noMultiLvlLbl val="0"/>
      </c:catAx>
      <c:valAx>
        <c:axId val="99881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26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F51-D267-46C6-9C08-B62A08C1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6FC-3F13-4898-98F0-9CC4B5B1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1B5-3504-49F4-A262-C817EC18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DE5-DB98-4C31-BE30-5AD53133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1A7-23F3-4230-BBFC-1EEA9BA7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D48-BD51-47BD-8FC2-8DDBD756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62E-61F2-44EB-872A-821622CE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686-9D52-4ABA-99A8-312B26E1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2DA-CFCE-4459-B7B8-722F2CFB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C36-EFA9-47E5-947C-FE60FA1F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69A-6ADE-43D2-A564-5012B079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34E-2B5F-46F9-9C03-DBAD389F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C911D-24E5-492C-A644-AD6A80062E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