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79566"/>
        <c:axId val="24753049"/>
      </c:barChart>
      <c:catAx>
        <c:axId val="97779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3049"/>
        <c:crosses val="autoZero"/>
        <c:auto val="1"/>
        <c:lblAlgn val="ctr"/>
        <c:lblOffset val="100"/>
        <c:noMultiLvlLbl val="0"/>
      </c:catAx>
      <c:valAx>
        <c:axId val="24753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9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475-5CFF-4B5C-B1E1-36D1B170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456-1696-41ED-A49C-286A1FEA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FD5-59F4-4667-8561-14F91EB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93B-0C2D-4244-AEB0-BBD0016E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D7F-E764-4A20-AB82-930F241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E7B-B990-43D5-80E2-24FC857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A9D-9B91-48E7-AEAF-3C2CEF11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CAF-47F1-4BA2-AFAB-0D1681FE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32E-AF65-4A01-839D-CA232EA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0B5-43B6-4CF9-9661-EA8D2B7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8D3-1D09-4102-9732-86354AE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A85-A162-490B-8752-16410C3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14CD-103E-4B50-9AB5-412D214FE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