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705855"/>
        <c:axId val="97356210"/>
      </c:barChart>
      <c:catAx>
        <c:axId val="567058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56210"/>
        <c:crosses val="autoZero"/>
        <c:auto val="1"/>
        <c:lblAlgn val="ctr"/>
        <c:lblOffset val="100"/>
        <c:noMultiLvlLbl val="0"/>
      </c:catAx>
      <c:valAx>
        <c:axId val="973562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058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F8C3-545E-4CF4-A49A-2D1C8577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C8FA-C3A7-4349-906A-1DC70368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37FF-954E-4421-801A-9F8F7B2C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67A0-E03C-4489-8FA8-2867C600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5E50-00B5-4C9A-9C84-22258BDA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4DEE-8DE1-4B10-B35A-57DDE4EB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F090-7A79-4B3C-9A0F-530976A4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9C52-6CE6-4579-8AF4-87CEFC19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DA57-4187-4EBE-BA68-54670332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A63F-C0AF-4AC6-B6E0-1BDB0B2E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F4BC-D5C8-463F-BFCF-E1E8FD4D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2E80-9679-4CE8-8E0B-4CEE21E5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58656-B056-4138-B3DF-A759BB7724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