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93549"/>
        <c:axId val="26204467"/>
      </c:barChart>
      <c:catAx>
        <c:axId val="67093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04467"/>
        <c:crosses val="autoZero"/>
        <c:auto val="1"/>
        <c:lblAlgn val="ctr"/>
        <c:lblOffset val="100"/>
        <c:noMultiLvlLbl val="0"/>
      </c:catAx>
      <c:valAx>
        <c:axId val="26204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93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3E1-436C-4908-A9E7-CD49C03F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5BD-B16A-46E6-92E4-696ECA4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63D-87EB-4A4C-89C0-DA8DD79F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5A6-33B2-4468-A683-5068075F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F0F-4F88-4DB8-B400-4EF8A9EF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1C7-9DCF-406A-B098-EBEDB3F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D65-B882-47D7-9F4C-B4D4A196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433-A3E3-4245-B676-747B048B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462-8A5C-4883-B842-CD756783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7C0-09FC-437B-959D-1F2FA950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6C3-2E0C-4276-B853-8D6A806A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C9D-DE96-441D-80BD-79ED86B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0F2BF-F673-47E2-B29E-316083F047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