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89411"/>
        <c:axId val="82439345"/>
      </c:barChart>
      <c:catAx>
        <c:axId val="34789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9345"/>
        <c:crosses val="autoZero"/>
        <c:auto val="1"/>
        <c:lblAlgn val="ctr"/>
        <c:lblOffset val="100"/>
        <c:noMultiLvlLbl val="0"/>
      </c:catAx>
      <c:valAx>
        <c:axId val="82439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9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BEB-D042-4834-B54B-4F3DAC50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3AD-F8BC-4EF1-833F-87A6A1A1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CA5-75B6-4298-9193-1E6452C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1D6-B737-46E4-A32E-597EDC1E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280-16F7-4049-8A57-1E4B096D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223-2824-425F-BA09-F257EE2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ED5-2709-42DF-8094-1709DE4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5A0-347E-4FCD-8E4D-FE43A1A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245-D638-41AB-87C7-F6EF3D41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944-814A-43C5-863A-34F297A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07A-7B79-4515-A084-6404A81F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E8B-C832-4D59-A726-D5FF870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0444D-35DA-492D-ACC8-8278D66FD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