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27756"/>
        <c:axId val="96548853"/>
      </c:barChart>
      <c:catAx>
        <c:axId val="21927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48853"/>
        <c:crosses val="autoZero"/>
        <c:auto val="1"/>
        <c:lblAlgn val="ctr"/>
        <c:lblOffset val="100"/>
        <c:noMultiLvlLbl val="0"/>
      </c:catAx>
      <c:valAx>
        <c:axId val="96548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27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C3C-30A2-4884-AA6D-21D5EEF6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767-9613-4DFF-B4DA-62414B8B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53E-987A-4DDF-B7E2-DA4DF911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424-EEB2-4839-915A-60D5C450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368-BC41-4C0A-BB02-BA2FBBBB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211-3582-4DC2-B917-855F13FF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1F9-8FE9-4507-95F7-DED1770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5EB-04D5-41A7-B72C-9E83ADF2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E03-36F0-4125-A1C8-EF4FE448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C4A-C125-4B50-9277-5E85B1CF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8AE-DFCE-4038-9117-84D11AE3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7C8-618E-455A-A982-631E968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BA8F5-0A33-4174-A204-75B294E9F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