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86148"/>
        <c:axId val="23698579"/>
      </c:barChart>
      <c:catAx>
        <c:axId val="74886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98579"/>
        <c:crosses val="autoZero"/>
        <c:auto val="1"/>
        <c:lblAlgn val="ctr"/>
        <c:lblOffset val="100"/>
        <c:noMultiLvlLbl val="0"/>
      </c:catAx>
      <c:valAx>
        <c:axId val="23698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86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215-A4C8-4899-A869-19B052CC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F4B-CC26-475C-B7F6-9D6B29E7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6C3-AD83-4F6F-86EC-48E826B3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FEA-DEF9-4813-932F-B0D89C3A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6AA-EEE2-4976-AAEB-22DB2D0E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125-EA62-4AE7-8720-186AACF1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2DB-2DFC-4C26-96CA-9A6F3632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8E6-B1E2-4C43-8DFF-C5CCAEB2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03A-CB18-4636-B648-97C92C1B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6AF-4A71-40F1-B15F-04BF1196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A45-E4B0-4049-AF7B-C0889537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126-FFD6-46DC-B008-9B03A7C9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AD622-A2B6-4C15-97B4-3B7C09F78D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