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77660"/>
        <c:axId val="36853889"/>
      </c:barChart>
      <c:catAx>
        <c:axId val="43977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3889"/>
        <c:crosses val="autoZero"/>
        <c:auto val="1"/>
        <c:lblAlgn val="ctr"/>
        <c:lblOffset val="100"/>
        <c:noMultiLvlLbl val="0"/>
      </c:catAx>
      <c:valAx>
        <c:axId val="36853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7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CB7-D536-4B4B-8332-CE502F22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966-ADF5-41CC-94DE-866B08E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04-8E61-4690-8B3A-328C0D06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ED6-AA3D-4777-93A2-63FC627D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0AC-54DB-47EA-876C-2DC0BE4E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5EE-2993-4F7D-BC37-E6ABC09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C3F-BFB3-47AA-8827-75189E7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689-1F2B-4BEC-B2D7-29C45BD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452-8BBE-4B02-A0E5-00A281D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F4A-6313-4111-85D0-675DBAB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54B-A0B2-4854-8A1F-8C210CC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437-AD51-446F-8E65-062C85B3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D95DE-06DB-4190-88FF-8EB523286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