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5703775"/>
        <c:axId val="35072869"/>
      </c:barChart>
      <c:catAx>
        <c:axId val="3570377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072869"/>
        <c:crosses val="autoZero"/>
        <c:auto val="1"/>
        <c:lblAlgn val="ctr"/>
        <c:lblOffset val="100"/>
        <c:noMultiLvlLbl val="0"/>
      </c:catAx>
      <c:valAx>
        <c:axId val="3507286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70377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22BC-51F6-4017-9A0D-6EC93B04C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E884-B6E2-4BDF-B250-AAC100D52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DD81-7FAB-4AFD-B347-7E0BCB977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4195-BAB0-416B-8A10-BAEB45CCE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8AB4-A2C4-4FA1-B240-E8D587B66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A78F-AA65-4C2D-BA05-B6EDA5542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C03E-2E62-4717-AF8B-E244E6502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5EB0-0646-4DB2-8077-E593095F4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9A8B-CB31-476C-9C61-0FA0629CE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17A6-A483-45C3-BAA7-D189F681A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DE9D-B360-41C0-8652-467856620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DFE9-CBD3-4E13-A465-8BBA96AE5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5AA906-129F-44E6-9967-62C67146CA6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