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05067"/>
        <c:axId val="63003713"/>
      </c:barChart>
      <c:catAx>
        <c:axId val="10705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3713"/>
        <c:crosses val="autoZero"/>
        <c:auto val="1"/>
        <c:lblAlgn val="ctr"/>
        <c:lblOffset val="100"/>
        <c:noMultiLvlLbl val="0"/>
      </c:catAx>
      <c:valAx>
        <c:axId val="63003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05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EA8-4B94-4C93-B010-03D808B3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29E-EC66-4116-BDBF-7F7510D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8B0-B347-4FB9-8180-CFF40310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903-3753-45E4-A7F3-C65175BE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954-73C5-467A-8C7C-700145B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01D-F21B-437B-90AA-901901C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1A7-530C-41AD-9D41-4CD6FC4D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535-4736-4934-9844-CDD50301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4CE-628B-4760-83FF-245C0BC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84C-B05C-4898-9710-B8C759F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8BA-9EFF-4D44-A3D4-7A32BC12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201-855A-4B21-858E-1EF6A75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BC0D5-0A82-466B-BD1D-7480261C5E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