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46908"/>
        <c:axId val="71417151"/>
      </c:barChart>
      <c:catAx>
        <c:axId val="89246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17151"/>
        <c:crosses val="autoZero"/>
        <c:auto val="1"/>
        <c:lblAlgn val="ctr"/>
        <c:lblOffset val="100"/>
        <c:noMultiLvlLbl val="0"/>
      </c:catAx>
      <c:valAx>
        <c:axId val="71417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46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8EB-00A5-4171-A9A7-6D3C102C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B73-C80B-45A4-BFEE-1EEBBE2E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412-77A6-4D73-ABF4-02748DEF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57F-8058-4876-8A3F-FBF6D9BD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84F-5314-46E2-BF65-30294408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2A1-8110-4735-AF55-F47E6D4B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305-B102-48AD-9024-11695882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CAC-BFEF-44FB-A82C-967B2915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D58-15A4-4DCF-8565-383A8644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F9B-9221-4F0B-BAD0-4695A52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E4F-2272-40EE-BE1C-8F51989F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839-02F6-48FA-9254-1DAC17E7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C3208-9DBD-49EF-9657-94C9A13C1B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