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28826"/>
        <c:axId val="89489832"/>
      </c:barChart>
      <c:catAx>
        <c:axId val="11828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89832"/>
        <c:crosses val="autoZero"/>
        <c:auto val="1"/>
        <c:lblAlgn val="ctr"/>
        <c:lblOffset val="100"/>
        <c:noMultiLvlLbl val="0"/>
      </c:catAx>
      <c:valAx>
        <c:axId val="89489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8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BA8-D11B-43E5-8FD9-F6683F01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6EA-6E90-4F3C-800F-66F43A1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7C9-93FF-47C7-B349-5C412C80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4E7-FFC1-4BF7-8102-0A6A1C68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B45-9D88-4274-9FED-32ABBF3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EA4-B9F0-4C45-8DEB-745F025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BEF-CF03-49DC-8B5F-798508F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9CC-8275-41B7-B1E0-D7A9772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C24-6955-4A02-980A-7DDB7E4E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CA3-2E1D-4AF4-844D-9DC13D9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BE3-5F89-498E-9482-12D3BDF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698-0399-4D08-AF6C-F8B8555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BED2-82EC-4E78-B5C8-614755B42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