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15701"/>
        <c:axId val="37954792"/>
      </c:barChart>
      <c:catAx>
        <c:axId val="46315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4792"/>
        <c:crosses val="autoZero"/>
        <c:auto val="1"/>
        <c:lblAlgn val="ctr"/>
        <c:lblOffset val="100"/>
        <c:noMultiLvlLbl val="0"/>
      </c:catAx>
      <c:valAx>
        <c:axId val="37954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15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0B5-A723-4ADB-AEAB-622FB61B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064-F49C-4506-BB52-CB1858EE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5E0-45F6-457D-B840-F6493842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8E7-82B5-41DE-9AFB-AE18E7ED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5C8-B936-4A9C-8ECF-7FE0C348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E3E-90F2-4CA9-96CC-B48226C5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C74-4551-4601-A801-ED8C48A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607-0465-4C89-9D63-422C1FAE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BD8-47F1-4D33-9273-47AF1DA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530-AA7E-4D88-9915-87E39113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E9C-623D-4A82-83B9-E597D91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E27-55C3-4128-967D-22B008B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08433-CF64-4B60-A353-981ED65399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