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775847"/>
        <c:axId val="14800114"/>
      </c:barChart>
      <c:catAx>
        <c:axId val="247758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800114"/>
        <c:crosses val="autoZero"/>
        <c:auto val="1"/>
        <c:lblAlgn val="ctr"/>
        <c:lblOffset val="100"/>
        <c:noMultiLvlLbl val="0"/>
      </c:catAx>
      <c:valAx>
        <c:axId val="148001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7758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ECF4-0883-44B2-BE46-9C4FDAEC1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32AA-F9E5-482D-97E9-582E6C41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557A-DAFB-41D9-BEB0-FD35142A6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5F5D-2AF3-4AE4-B54A-2092615A7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5B44-FCF5-4934-AAFF-A73D7385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7813-87C0-444B-8CB1-911A5A32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589B-2A19-4974-971B-59C5631E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4559-F6EA-4533-BE46-70E4D235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3E32-E4C0-4CAD-B7A4-7A568379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A7B7-2678-4FCB-B35B-C249653C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846A-DAB2-4A52-802F-98BEE75B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C0F1-ADB9-4A1A-AE9B-759E2CC6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AA9E44-9129-4C01-8D10-38C0873EB8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