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53446"/>
        <c:axId val="99722296"/>
      </c:barChart>
      <c:catAx>
        <c:axId val="8425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22296"/>
        <c:crosses val="autoZero"/>
        <c:auto val="1"/>
        <c:lblAlgn val="ctr"/>
        <c:lblOffset val="100"/>
        <c:noMultiLvlLbl val="0"/>
      </c:catAx>
      <c:valAx>
        <c:axId val="99722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F6F-34E6-416D-9E3C-D44F50B5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C9C-0C26-4337-86EC-7B6DB6E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680-9892-4963-B6EA-087010A3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A96-6CEB-4A26-9E91-1176E4C6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3D0-AA35-4CE2-BE4A-A16692F8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293-DFD3-4E16-8754-350FBD6A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C9D-C137-4CD6-A841-C314BE86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75D-D3D1-44D0-A7E1-BFE4BF4C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1EE-0DBB-4AEF-B0DE-2FC74E2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EDF-A358-4E92-B746-3F0F73B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578-912B-4456-8E02-2D589F7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DEC-C035-4CF4-BE78-8B737A5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00F00-9FDF-4712-9EBF-E51EDF986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