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17982"/>
        <c:axId val="65228101"/>
      </c:barChart>
      <c:catAx>
        <c:axId val="66017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28101"/>
        <c:crosses val="autoZero"/>
        <c:auto val="1"/>
        <c:lblAlgn val="ctr"/>
        <c:lblOffset val="100"/>
        <c:noMultiLvlLbl val="0"/>
      </c:catAx>
      <c:valAx>
        <c:axId val="65228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17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647-CC33-4B26-95FF-61B3B93F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6E0-5170-4A0D-8340-13E05DC7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F1B-025D-4B23-86EC-69252C24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96B-A920-4355-961B-4DF3FB77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944-4AEF-4578-8FF7-EB7D7575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71D-4EDA-4659-84A0-1BB20541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5D5-8995-40F1-A3A9-2BD64294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6CB-15FB-4A22-9D15-9467CB51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6DD-9BBE-4B82-A403-1151E228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EA6-47A2-441D-8D6A-62653A0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697-2C76-4EE2-BF3B-D4498B72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299-1883-4DFA-A78D-BF3986F6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B5A41-E0E7-4CEC-B154-EF8D7C87F4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