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987"/>
        <c:axId val="64599314"/>
      </c:barChart>
      <c:catAx>
        <c:axId val="1939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99314"/>
        <c:crosses val="autoZero"/>
        <c:auto val="1"/>
        <c:lblAlgn val="ctr"/>
        <c:lblOffset val="100"/>
        <c:noMultiLvlLbl val="0"/>
      </c:catAx>
      <c:valAx>
        <c:axId val="64599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075-478A-47EA-AE40-80026B15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948-FBEF-4385-86E4-452483F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AFF-79F0-4116-9CE2-FB35A975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736-C5D6-4CC0-AB2F-CBFA2035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CA3-8C9C-46FB-B173-DC7A9552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1D5-E7D8-41AE-A4B9-8578C5F2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BF4-C380-4577-9A51-5AC4FAA1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67E-7040-44BB-8DFF-472F32C3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E59-DE97-4DDB-998D-176E43CA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5A2-35CD-4EC0-AAB1-8B8DB16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641-036A-4289-8F1E-0A40EF8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315-19A1-4B82-A7ED-D7D634C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A493-2C75-4E24-A8DA-A3D4EF0B31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