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61883"/>
        <c:axId val="62453779"/>
      </c:barChart>
      <c:catAx>
        <c:axId val="57961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53779"/>
        <c:crosses val="autoZero"/>
        <c:auto val="1"/>
        <c:lblAlgn val="ctr"/>
        <c:lblOffset val="100"/>
        <c:noMultiLvlLbl val="0"/>
      </c:catAx>
      <c:valAx>
        <c:axId val="62453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61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E70-B158-4032-A7E5-B1E72285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00B-5DDC-487C-B142-EEF55C62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A79-9253-434D-83D5-C50B74EA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4A1-35FA-41BC-8BF4-8E9D8AD2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544-C290-48D4-A8E2-8A122DF7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C4B-5770-4B7A-B990-14C70A3C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803-CB15-4040-A74D-E87D85BD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5F3-A82F-42A7-8ED0-0A691A72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CDB-A676-4FDA-BE40-1F30AAFD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89D-267F-42A0-BF02-A67CC735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7F7-8C40-4212-B244-43AFF510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E62-B61F-4381-A3A7-921740E7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089AF-9DE1-4745-A4C8-3016E2F21F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