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242511"/>
        <c:axId val="93303069"/>
      </c:barChart>
      <c:catAx>
        <c:axId val="372425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03069"/>
        <c:crosses val="autoZero"/>
        <c:auto val="1"/>
        <c:lblAlgn val="ctr"/>
        <c:lblOffset val="100"/>
        <c:noMultiLvlLbl val="0"/>
      </c:catAx>
      <c:valAx>
        <c:axId val="933030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425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C888-B3BC-4ACB-9580-84CDCF2A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B947-DC95-42DE-B558-03526EAB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F637-389F-4926-AC11-274D100E4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D3E0-5605-46AF-A351-703E80EF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8976-841C-4C0E-B9FB-CA437A86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3B8E-94F8-4561-B721-08D823E8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196B-5642-4DAD-9D75-06DED398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5E0F-10E4-4B7B-B5D1-A4772405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27F6-3A09-4D0B-90C8-820EC22E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DD8F-75FD-4313-92C0-EC67D395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D9FD-4041-4712-9D4E-587788EC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1149-3FDA-4CC1-ABF2-F0EA4D59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A1353-DE16-4185-8BF8-782A65A6D6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