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82096"/>
        <c:axId val="51259551"/>
      </c:barChart>
      <c:catAx>
        <c:axId val="46982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59551"/>
        <c:crosses val="autoZero"/>
        <c:auto val="1"/>
        <c:lblAlgn val="ctr"/>
        <c:lblOffset val="100"/>
        <c:noMultiLvlLbl val="0"/>
      </c:catAx>
      <c:valAx>
        <c:axId val="51259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82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6E8-B093-4C72-9D18-6C2FD814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A74-0825-4002-BEBC-DF81879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9C3-EA12-4F04-B76A-922F43D9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DCF-0637-45E4-BED6-8588FA0E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966-E341-49BB-881A-7EF989FA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1B3-B5A3-430A-98D6-30A62090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298-D8EB-4D21-A456-368E6D17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20C-62A5-4EF4-B224-354FE9F8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9C9-38F7-4278-B71A-10AF0F80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2B7-48C6-4D1E-B49F-14058E4D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B8C-1547-42DC-81D3-44CCD69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A70-D634-43D0-B1B8-B28C819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86D35-4504-4DB7-985E-5222CD37B8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