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057680"/>
        <c:axId val="97479211"/>
      </c:barChart>
      <c:catAx>
        <c:axId val="890576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479211"/>
        <c:crosses val="autoZero"/>
        <c:auto val="1"/>
        <c:lblAlgn val="ctr"/>
        <c:lblOffset val="100"/>
        <c:noMultiLvlLbl val="0"/>
      </c:catAx>
      <c:valAx>
        <c:axId val="974792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0576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24DA-CE25-42FA-9AF4-5A907B19B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06E4-960F-401D-99FB-8ADC8D798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15F1-9F89-47E5-9060-257EA7876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8945-84F0-4D5C-A5F7-5FE628D83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9B7C-D307-42EB-AE02-92E1AB76F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5D72-520E-441A-926C-2AD5A78ED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DBE5-A9A4-449A-828D-34099933C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F38E-F6C8-4A1B-B4C8-A382EA49B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DCE9-2BCF-4D8D-8AC8-F2BA96B19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DCB4-BDB0-42BA-8249-2266B8442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78AA-9B6B-41DB-A2B2-441D1BC24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8EC6-D22F-430B-B9AB-5A5AAB77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43ECC2-59E7-4993-AFDF-C9CBD3A116A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