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93493"/>
        <c:axId val="88278298"/>
      </c:barChart>
      <c:catAx>
        <c:axId val="75393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78298"/>
        <c:crosses val="autoZero"/>
        <c:auto val="1"/>
        <c:lblAlgn val="ctr"/>
        <c:lblOffset val="100"/>
        <c:noMultiLvlLbl val="0"/>
      </c:catAx>
      <c:valAx>
        <c:axId val="88278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3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860-2FBB-41C6-A2BA-277BE9AA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C5B-152D-40BB-8F1C-CB93A68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4A1-E6F7-48AE-8F7A-07BF7271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C56-8C81-4BC5-9A88-AAFFCA20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A8A-6D1E-49A0-99DB-6DE4F75A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285-2C7A-46DD-AEF4-D308670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865-6F1D-4148-BA8E-A3CB90F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506-29B0-4F96-8D4A-02BEF16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B3D-39EF-40EA-8E46-BE23C23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EC7-2D88-427B-9A32-260AA53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E6A-B948-4F08-95C6-9DD70FD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240-3904-449C-B2F9-2BA6FF7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9E5B0-7E3A-4053-B22D-037ABA4767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