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518"/>
        <c:axId val="9689580"/>
      </c:barChart>
      <c:catAx>
        <c:axId val="315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580"/>
        <c:crosses val="autoZero"/>
        <c:auto val="1"/>
        <c:lblAlgn val="ctr"/>
        <c:lblOffset val="100"/>
        <c:noMultiLvlLbl val="0"/>
      </c:catAx>
      <c:valAx>
        <c:axId val="9689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670-18F9-425C-95CF-D7AF87D5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D74-A3D9-4433-9227-2E63300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5AD-5635-42A9-A5AB-12C8B3D0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0A3-5D7B-4259-B31B-7CEBA1E5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5F3-914C-44F8-9742-3B638D1C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F56-893A-42A9-9EAB-AE20A763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655-351C-424A-9D30-AB5240E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FCD-E7BD-4318-A227-D4CF998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618-7B26-4731-9DA9-0F93D24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735-CBCC-48DE-8421-D73041D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C44-DFAB-42C1-8FB8-44E703C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52A-BFFF-49ED-ACDC-A92F581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A7F26-A1CE-41C1-AB69-29F51588B8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