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615071"/>
        <c:axId val="7593824"/>
      </c:barChart>
      <c:catAx>
        <c:axId val="906150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93824"/>
        <c:crosses val="autoZero"/>
        <c:auto val="1"/>
        <c:lblAlgn val="ctr"/>
        <c:lblOffset val="100"/>
        <c:noMultiLvlLbl val="0"/>
      </c:catAx>
      <c:valAx>
        <c:axId val="75938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6150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A8DE-4E60-4678-8C42-2DF161026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6603-F617-4837-A4AD-812965EB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7803-5D0B-4F0C-B379-342E7F80D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D6E3-6E09-46D0-ABF8-14553718C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3825-2010-4163-B0B1-F6F4E8A6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3991-8A20-4381-84C9-EB991135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A9F2-1FFE-49CA-A92A-CE00755F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4BB5-8105-44ED-A5A3-A66FDA3A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DD04-035A-4980-9CBB-D42C9CDA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41E5-26E5-4B1A-9D8E-A3D74E30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DA01-896E-49E8-BA44-90E43B82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55D5-77BF-4CA9-ADDB-622AA166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2076C4-6E11-471A-B0AE-033F5BA025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