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50547"/>
        <c:axId val="41636246"/>
      </c:barChart>
      <c:catAx>
        <c:axId val="27250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36246"/>
        <c:crosses val="autoZero"/>
        <c:auto val="1"/>
        <c:lblAlgn val="ctr"/>
        <c:lblOffset val="100"/>
        <c:noMultiLvlLbl val="0"/>
      </c:catAx>
      <c:valAx>
        <c:axId val="41636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50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CB0-B417-4C63-A744-0BF9E1C1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6C5-7D0B-4612-B09F-EE4396F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0C3-4CBE-4A82-A420-7CBD7582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B1E-09A2-460F-9629-7513648A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B14-FE6A-4953-878F-A791535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351-70F3-4AC0-8113-D4115FD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E1C-1E7E-4E45-8753-78F08D4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0AB-CE8F-47C6-B85B-299F09F8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99D-03E7-4937-BF76-C13F368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2B3-F9DE-449E-A3D9-A2FBA7DC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655-6961-439A-A85F-69EE6942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DAE-E93E-4A16-8912-2135AAA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6873E-9FEF-429D-9253-9F0689FBBD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