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5175316"/>
        <c:axId val="80840656"/>
      </c:barChart>
      <c:catAx>
        <c:axId val="6517531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840656"/>
        <c:crosses val="autoZero"/>
        <c:auto val="1"/>
        <c:lblAlgn val="ctr"/>
        <c:lblOffset val="100"/>
        <c:noMultiLvlLbl val="0"/>
      </c:catAx>
      <c:valAx>
        <c:axId val="8084065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17531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ED577-233E-4813-96E1-4C64FBF1E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0049B-A4B2-4F9E-8E0A-B619D4502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E63C0-8BFF-4430-86E5-5DA4A5D12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DB505-7E0B-4806-B063-D882317B9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51FFE-0A7B-4B25-A3AD-801C3302F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2112E-1F22-47FB-B8BD-244D98213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C9544-DB50-4258-8C4D-11D874FAC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A7C29-C1ED-445B-A0EE-2387D5706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8CC8F-A42A-4874-BCD8-352BC1035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15387-E1B3-45BB-B58B-51951FDF9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B4588-963B-46EC-BA2F-F29C25102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7B6AC-894C-42FA-9357-89B30A6C5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D80BA3-79C2-47B6-9F53-A905C763756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