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7013"/>
        <c:axId val="91774951"/>
      </c:barChart>
      <c:catAx>
        <c:axId val="62387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4951"/>
        <c:crosses val="autoZero"/>
        <c:auto val="1"/>
        <c:lblAlgn val="ctr"/>
        <c:lblOffset val="100"/>
        <c:noMultiLvlLbl val="0"/>
      </c:catAx>
      <c:valAx>
        <c:axId val="91774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7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E2-B31D-4163-8C08-B9CEF6ED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E41-8E28-4A1D-8A1E-51188F3A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4E9-F8C2-46AC-A9CF-268015A3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86C-B376-46A3-A8DF-3B348E4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3C6-84D1-4D01-BF9A-CA77105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B71-85ED-4965-B81F-49AA31C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EC5-64FC-436E-997B-4060BA8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C4E-E961-4431-B2FE-C261B4E4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ED6-B2FF-4DCB-8138-AE464EC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776-0DDD-46B4-86A2-3CA5ECC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C0A-67C2-44C2-84E8-3CA7FF20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372-0988-4046-ACB2-2F8C785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F030D-5A1B-48D1-B714-0261ED2683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