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14102"/>
        <c:axId val="61848520"/>
      </c:barChart>
      <c:catAx>
        <c:axId val="95414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8520"/>
        <c:crosses val="autoZero"/>
        <c:auto val="1"/>
        <c:lblAlgn val="ctr"/>
        <c:lblOffset val="100"/>
        <c:noMultiLvlLbl val="0"/>
      </c:catAx>
      <c:valAx>
        <c:axId val="61848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4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F33-7582-4EA5-9859-959B3D1E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FA0-F54D-4033-BD07-217CB1F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A4A-FC5A-48E6-9BE4-87B31FA0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A92-E8AA-4872-AB6C-3C2A164C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2E2-4DD4-4B25-94A9-A0293F2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EBF-E992-4CA5-A84D-8487B9B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46F-80F9-4D77-B17A-57E18DB7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755-6C46-45AA-B75A-31A32B08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086-D804-46C1-A532-3DE1CAF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ED2-3C43-4AF0-8B62-9C231DD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4D3-4742-49DC-B783-D02BB7B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4CE-7371-447F-B092-3115AE5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D4AA7-A168-477F-B9BD-DD33AE17E6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