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1541"/>
        <c:axId val="78264268"/>
      </c:barChart>
      <c:catAx>
        <c:axId val="1111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64268"/>
        <c:crosses val="autoZero"/>
        <c:auto val="1"/>
        <c:lblAlgn val="ctr"/>
        <c:lblOffset val="100"/>
        <c:noMultiLvlLbl val="0"/>
      </c:catAx>
      <c:valAx>
        <c:axId val="78264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1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559-E215-4D3E-AF9F-E4AF6FF6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A20-B8DF-4893-8123-7F1729D2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1C5-AD18-4B9C-B08C-BE6BA2EF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6D5-B21C-4654-BC7B-99AEC4CE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0AD-2A23-4406-A715-1BE00ED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EAE-1018-40DF-BC70-DD882FC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582-11B7-4D79-A4FC-CAF8CEF9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4F2-4644-450A-A511-B8152615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1F8-9A4A-46F4-901B-D416717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057-E7AE-4866-BE7D-FD3982F7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853-B97B-4368-8EDD-2EB8CF2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B89-4923-41F6-9253-89964556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84343-DEED-487C-B66A-6011D26B49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