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94525"/>
        <c:axId val="21646393"/>
      </c:barChart>
      <c:catAx>
        <c:axId val="66394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46393"/>
        <c:crosses val="autoZero"/>
        <c:auto val="1"/>
        <c:lblAlgn val="ctr"/>
        <c:lblOffset val="100"/>
        <c:noMultiLvlLbl val="0"/>
      </c:catAx>
      <c:valAx>
        <c:axId val="21646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4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E76F-4FE8-4D28-8436-299DFE36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E55-68A1-405A-B683-CE839C2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3B5-F910-43D8-A1F5-352B99BB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9D4-D3D7-4784-9E79-FB95079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2E7-B255-41A0-9A30-3244485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000-110A-4224-A5A0-9207B4D1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415-B75C-4F42-B94F-F72B8A6F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AEB-A8C6-4D29-BD83-E38896D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7B9-1A4D-43EE-9BC4-94272AA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097-6C04-4577-BD50-F55E37B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5C3-ABA6-4595-A3D5-BF240BE4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1BC-A370-42D8-B6DF-F31656F2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6161D-4B58-4AEE-BEC1-F322E6CA8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