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7617"/>
        <c:axId val="85259801"/>
      </c:barChart>
      <c:catAx>
        <c:axId val="37867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59801"/>
        <c:crosses val="autoZero"/>
        <c:auto val="1"/>
        <c:lblAlgn val="ctr"/>
        <c:lblOffset val="100"/>
        <c:noMultiLvlLbl val="0"/>
      </c:catAx>
      <c:valAx>
        <c:axId val="85259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7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6A4A-BD0B-4484-B269-67A35DA2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EC5B-7A10-4575-8958-1010E97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D76-3E05-4ABA-8DF5-DF5117E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D00-7DEB-47AB-949F-32CA645A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7B4-A46F-45CB-99A3-6C1594F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4C3-A295-4CE1-B636-BDE3C15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FE7-A2D8-40B4-8F28-AF67FA4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BC5-E7AB-4F96-ADEA-BAFAFA42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0E8-3D72-4C8A-BE33-71136A7E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8DC-2FE8-4017-AE2E-781D192D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EEE-A8F4-44CB-A319-A78C5DF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AAF-483E-40AC-ADCC-71C89ED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4286B-E303-44C2-987B-F0897C40F8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