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132088"/>
        <c:axId val="38667435"/>
      </c:barChart>
      <c:catAx>
        <c:axId val="821320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67435"/>
        <c:crosses val="autoZero"/>
        <c:auto val="1"/>
        <c:lblAlgn val="ctr"/>
        <c:lblOffset val="100"/>
        <c:noMultiLvlLbl val="0"/>
      </c:catAx>
      <c:valAx>
        <c:axId val="386674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320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15F3-CD26-48CA-A805-85585952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1957-32A2-4535-B2B0-D950DC38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3235-1106-47C4-93CA-A298B289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B956-CB50-401E-BDAB-1C86EFEFB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D29F-9D2B-4B60-9A92-159B164B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D492-EC39-4B77-A518-37AF8AFB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49CA-BFD1-4533-8432-F1CC13B2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B428-E981-476D-A1DC-F94F4FFC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6236-25D5-4899-B14C-6D21D5DA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F62B-7AC1-4346-81CD-DED3F9B2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3977-E39C-4D42-95CF-1E80CD9E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7112-F9EA-4165-B384-84D3980E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89CE1-5683-435A-BAD6-2C2EF2F728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