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5955703"/>
        <c:axId val="93007978"/>
      </c:barChart>
      <c:catAx>
        <c:axId val="1595570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007978"/>
        <c:crosses val="autoZero"/>
        <c:auto val="1"/>
        <c:lblAlgn val="ctr"/>
        <c:lblOffset val="100"/>
        <c:noMultiLvlLbl val="0"/>
      </c:catAx>
      <c:valAx>
        <c:axId val="9300797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95570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F792-830E-4BE1-8B4B-C89AA0FAC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60A5-19C8-4B5B-A36C-92E008903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8C2E-A91B-4DA0-9894-4333CC2FE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5580-E4EE-438A-987C-DA65CCE70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0897-C8E3-4FE5-85A8-689756294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E86A-BE3E-446B-B7AA-0E94D72F2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E467-FB2F-46F8-85A5-D4F4A32DE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C253-04C0-4D50-906B-DF26A286C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7CF2-D251-4AD9-99A5-B3F3D9080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1C13-B84C-45BA-99F5-9B9E02FDE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FC21-ABC8-45E0-8ECE-D55514C25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0A8D-C7E4-4867-AE93-CFE706802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53C196-84E8-48C8-9090-A5410DC571C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