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9442"/>
        <c:axId val="31323748"/>
      </c:barChart>
      <c:catAx>
        <c:axId val="2109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23748"/>
        <c:crosses val="autoZero"/>
        <c:auto val="1"/>
        <c:lblAlgn val="ctr"/>
        <c:lblOffset val="100"/>
        <c:noMultiLvlLbl val="0"/>
      </c:catAx>
      <c:valAx>
        <c:axId val="31323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9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F75-76D4-4280-B035-E9CC74AD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E26-BA8F-4DFE-A1BC-64F82A9F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F32-A639-4014-96A0-B6632B94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672-BBBD-4588-8F01-A29504D1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05E-C1B1-4831-8829-825665F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7C7-F4D1-462C-A5B2-5C014DAE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0FC-A57C-4CB1-9999-5CB041A3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DB7-B883-4A2D-981B-866B1AAD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653-5399-4AD6-960F-9E6034EE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076-1F17-4C17-BA68-7F053258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559-FFD6-4A7E-8590-53AB362B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324-A649-41E0-B9CA-F5487371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BCA50-77F7-4796-804C-35872BA209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