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77569"/>
        <c:axId val="78023911"/>
      </c:barChart>
      <c:catAx>
        <c:axId val="45177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23911"/>
        <c:crosses val="autoZero"/>
        <c:auto val="1"/>
        <c:lblAlgn val="ctr"/>
        <c:lblOffset val="100"/>
        <c:noMultiLvlLbl val="0"/>
      </c:catAx>
      <c:valAx>
        <c:axId val="78023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7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9B9-DC1C-4F82-9B44-8C7F22DF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33C-4F94-4587-9FB7-10D306A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37C-E369-4CD4-9816-67357DDE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365-8470-48E2-BA92-1A850194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49-4786-4916-AAC5-3294319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432-3812-4437-A307-57D228CF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15F-3C46-4C44-88B3-C93C148F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AA3-2C68-4638-B3B6-53917F5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7C7-73DF-446E-9159-FF1C7AB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E82-DF58-4411-8127-21D1381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C39-A92E-443B-896B-73DDDBD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5D1-E12B-417F-A3F6-919ACBA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8FBF-D26E-446C-B09F-B6E202646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