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65875"/>
        <c:axId val="89417584"/>
      </c:barChart>
      <c:catAx>
        <c:axId val="88165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7584"/>
        <c:crosses val="autoZero"/>
        <c:auto val="1"/>
        <c:lblAlgn val="ctr"/>
        <c:lblOffset val="100"/>
        <c:noMultiLvlLbl val="0"/>
      </c:catAx>
      <c:valAx>
        <c:axId val="89417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5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45F-A978-448B-BDEB-043CAF70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EC2-1246-4E67-ABF0-7CF3C4B7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422-C77A-4CBC-BC42-F09C4ECC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E7B-8B4B-412C-9C5D-97C26C3B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9E0-C874-404D-9479-ED7653C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85B-B4D2-40A2-80DF-D3B1BFC7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6AA-849F-46EC-9E1E-6EF1513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1C6-DFD3-4CFF-B060-2A2A5D2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FD2-4175-4418-83F3-1E9D08EB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81C-FED5-4D90-B031-370A4A4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E96-1DAF-4C01-8F9F-DEFA36D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AAD-374C-4AD1-AD6D-E6CB060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738E-2A0B-42A7-AFCE-5D6170C8E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