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82579"/>
        <c:axId val="57932856"/>
      </c:barChart>
      <c:catAx>
        <c:axId val="15082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32856"/>
        <c:crosses val="autoZero"/>
        <c:auto val="1"/>
        <c:lblAlgn val="ctr"/>
        <c:lblOffset val="100"/>
        <c:noMultiLvlLbl val="0"/>
      </c:catAx>
      <c:valAx>
        <c:axId val="57932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82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9FA-81E0-479A-B4A5-7A82F42A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DDA-FDD7-4900-AA6E-EB75BDB4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0A8-AD16-4D3A-9699-39A6D24A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59C-EB23-4DEF-8B95-206C7859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A33-608E-4B90-815E-CD8893EA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ADF-624E-41F8-AA65-972EAEE0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9BE-5C59-452A-9905-3AA583B3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B44-266F-46D5-8DEE-96518D66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ADF-BE04-4EAB-A47F-EC4DF756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304-866E-4EB4-86C9-05A799DD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F08-365F-48D3-9C62-49EC737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C3F-101F-41F6-8E1D-EC4B0CF9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C465E-FD40-455E-9116-13C9B8DBB5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