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10419"/>
        <c:axId val="86643925"/>
      </c:barChart>
      <c:catAx>
        <c:axId val="62910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3925"/>
        <c:crosses val="autoZero"/>
        <c:auto val="1"/>
        <c:lblAlgn val="ctr"/>
        <c:lblOffset val="100"/>
        <c:noMultiLvlLbl val="0"/>
      </c:catAx>
      <c:valAx>
        <c:axId val="86643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10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F9D-630D-49AF-9BD7-28B8C350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671-E5CC-4F7A-92F5-471F4A3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726-754E-4046-A8DE-69B3EB58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24D-A6B0-444F-917B-B02137FF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D2C-A90B-41C4-B9C3-D65EB92D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0A9-7232-46A9-B0E8-5C4AAD0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212-2055-4071-A23B-D3E6368A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0C4-83B9-451F-AC2E-B7EA302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84E-B79F-4A6D-A07E-5DF5690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7EF-B070-40DC-B44B-6D1447F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86E-70F1-4D1B-9C9F-9EE8552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618-85B2-432C-9163-F977E32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5B7F2-2BDD-4C48-A038-259FF81817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