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01339"/>
        <c:axId val="15758064"/>
      </c:barChart>
      <c:catAx>
        <c:axId val="83701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58064"/>
        <c:crosses val="autoZero"/>
        <c:auto val="1"/>
        <c:lblAlgn val="ctr"/>
        <c:lblOffset val="100"/>
        <c:noMultiLvlLbl val="0"/>
      </c:catAx>
      <c:valAx>
        <c:axId val="15758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01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D34-5F5F-4F31-B9C3-2385330E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D77-60F0-4F01-A409-027EBB85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8B2-78A8-45EE-996C-B4F4C215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F1E-AFCD-4A7D-878E-0654E9DA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E42-D7DD-4B36-942D-F89F2846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961-5D55-472E-9762-CC264616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F4D-D038-4168-8687-2BB5A9AF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245-B84C-4409-8470-ED7523D7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A3C-6A7D-4F6B-8A62-9D7913AC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81C-76E1-47D2-B9DC-2231E12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334-B31D-4D90-B8DF-22EBD63E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978-40B3-4F2F-9BFC-3EFF5828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1480B-D84A-41B1-B3DB-E239A87B30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