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85072"/>
        <c:axId val="12692096"/>
      </c:barChart>
      <c:catAx>
        <c:axId val="54985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2096"/>
        <c:crosses val="autoZero"/>
        <c:auto val="1"/>
        <c:lblAlgn val="ctr"/>
        <c:lblOffset val="100"/>
        <c:noMultiLvlLbl val="0"/>
      </c:catAx>
      <c:valAx>
        <c:axId val="12692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5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519-5238-4306-B7C3-4B0C6595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B84-CD9C-4C61-AD36-EC89173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8D0-4644-439C-B80E-3253F697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87E-9AEA-4F3F-93FC-6D348142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A4F-86E9-4196-BA9F-F96887F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D07-19A4-4027-9CF2-2845BAAB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DA7-5864-4AEC-8540-AC57FC7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485-7645-42E6-88F0-F2B47D0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009-27A6-4EB9-A849-8DC05318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F05-77FD-4251-AECF-A1646049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7D9-3969-4596-9F90-E967F54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EC6-0AF5-4F73-9C12-215B73C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C6DCD-C88B-4AF0-8834-D09606048A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