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8627"/>
        <c:axId val="25293066"/>
      </c:barChart>
      <c:catAx>
        <c:axId val="72908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93066"/>
        <c:crosses val="autoZero"/>
        <c:auto val="1"/>
        <c:lblAlgn val="ctr"/>
        <c:lblOffset val="100"/>
        <c:noMultiLvlLbl val="0"/>
      </c:catAx>
      <c:valAx>
        <c:axId val="25293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8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5A1-5AA2-4C46-B5C0-AE07E41D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F0F-D173-48FE-821D-EF0EA6A7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275-E685-4F4B-9405-BA06F34F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2B1-CAF2-475F-A170-B1B7C260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209-7E1F-4A4F-8DF3-05F3FB8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667-847E-4A10-80A8-7D88E60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88A-64F6-40BA-ABB2-5E70F40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D8F-F58D-40A5-B877-C61B03BD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E70-F132-4AB9-BF98-3F10A2C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FD5-32B8-4296-B9AC-0CA7749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DCE-8E81-4301-A8D1-236B67F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144-F9DE-45FB-B9A8-81EBEC1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3AF8-0B2C-435E-82ED-F121B47C6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