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9682"/>
        <c:axId val="25235331"/>
      </c:barChart>
      <c:catAx>
        <c:axId val="9289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5331"/>
        <c:crosses val="autoZero"/>
        <c:auto val="1"/>
        <c:lblAlgn val="ctr"/>
        <c:lblOffset val="100"/>
        <c:noMultiLvlLbl val="0"/>
      </c:catAx>
      <c:valAx>
        <c:axId val="25235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9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21C-2ABB-4B73-A8F2-242C2450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EA7-1D5B-4AEC-993A-61986D3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B63-0997-4041-AB80-6C09065E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681-07DF-437B-8F02-1A2B7F64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34F-9F78-4FA3-9097-02AD875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284-DB7F-4FE3-BCAE-C4689B5D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FEE-28A2-434E-B14B-9535E2A2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C50-97AF-437C-B952-B00300F7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4D7-0E1B-419F-9BF7-71CC9CE5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6EE-7D63-4290-B4D2-815E980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B28-D23C-4F58-8694-128064A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8B2-0340-44BF-94C5-8C28F82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92CA0-38CF-41F3-9583-FB5B87FA3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