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59994"/>
        <c:axId val="70606443"/>
      </c:barChart>
      <c:catAx>
        <c:axId val="59859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06443"/>
        <c:crosses val="autoZero"/>
        <c:auto val="1"/>
        <c:lblAlgn val="ctr"/>
        <c:lblOffset val="100"/>
        <c:noMultiLvlLbl val="0"/>
      </c:catAx>
      <c:valAx>
        <c:axId val="70606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59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A0A-2305-4032-B3EC-211E2D57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46A-A723-4734-A41A-E2D322A3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EF6-6563-4235-9CD6-B5722664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4EB-7B40-41E9-A5CB-74B7C8B7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B60-876A-4EA6-9C0B-7FF86BD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E14-C7C9-4B6A-A148-D27E3C7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D2D-D3E2-46EB-9409-59C04AC8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643-289F-4CE0-B00C-984E9BE5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860-CC3D-494A-BCE9-8E80840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006-E621-44BA-84BE-6E509143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320-8EF1-43D1-8414-6D026074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F76-2CB8-4830-A8ED-7ECEE17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B6A39-7E09-499B-B593-063C00682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