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70355"/>
        <c:axId val="43571013"/>
      </c:barChart>
      <c:catAx>
        <c:axId val="84170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71013"/>
        <c:crosses val="autoZero"/>
        <c:auto val="1"/>
        <c:lblAlgn val="ctr"/>
        <c:lblOffset val="100"/>
        <c:noMultiLvlLbl val="0"/>
      </c:catAx>
      <c:valAx>
        <c:axId val="43571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70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4AC-CF79-4393-B462-67C24BE5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A97-150F-42AB-BD3C-34AA4CC6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EEC-80A2-4C76-8B45-8EABDDF1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836-FF9F-4959-AC3E-3380AD64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907-3F2C-4892-BE9C-B1395D1E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982-1106-4D65-95FA-8D6859D0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A9F-C909-4394-AA38-DC07554D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F99-F8E9-4563-8604-437F027B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0B3-EC45-44DE-8F6A-21A47075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588-1C83-4309-8881-83CD4DD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B87-5171-43EC-AFAC-057D7E8D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414-2990-4A99-AFD1-4486F758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C0963-7893-406F-95BF-A699C5410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